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38A-6237-4256-A328-211FB1DC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489-3BBB-41D7-9D54-06724505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E3D-36E8-497C-8F3C-9FE6697B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9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93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665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829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93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27F-BD27-4EF6-B0AF-FAB1BCB7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910B-C830-4DC8-A0A4-2C49B881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57D-79F6-49C3-A027-401CDC97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4901-55AB-4E02-9F9B-250EA7BD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2F6-56F3-4BEC-9FC9-AB89F1E9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DA50-B057-4F63-9E15-9A8162F7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666880" y="1218960"/>
            <a:ext cx="6399360" cy="11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3525-2966-44C5-A39D-65F356C0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7FDD-63BA-42F3-BC23-4DE12A5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E30-576C-4313-B783-50A940A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1890-4675-49F3-8A53-E2B027E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5EED-D1C0-46BA-9588-8061D66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049B-699E-4D1E-A689-43132F6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12A7-D28A-476C-AEF2-FBA6FCC8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9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93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665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829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93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F33-9429-4730-B962-FC77A6BB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E5E-C0E2-444C-83B2-5A818F8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86A-BA76-41C5-BF51-CB6038C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D98-F1A0-48A1-80CC-5C99AC6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666880" y="1218960"/>
            <a:ext cx="6399360" cy="11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354-69CB-4A20-BCC3-D41B5DB8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8F2-BE92-482F-96F1-9787E0C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45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217-6EF4-4FF7-A7D3-743B34C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5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5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544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B3E-C9C3-48E9-8F0D-CE3176E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1" name=""/>
            <p:cNvSpPr/>
            <p:nvPr/>
          </p:nvSpPr>
          <p:spPr>
            <a:xfrm>
              <a:off x="123840" y="220680"/>
              <a:ext cx="1630440" cy="6637320"/>
            </a:xfrm>
            <a:custGeom>
              <a:avLst/>
              <a:gdLst/>
              <a:ahLst/>
              <a:rect l="l" t="t" r="r" b="b"/>
              <a:pathLst>
                <a:path w="1027" h="4181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2"/>
                  </a:lnTo>
                  <a:lnTo>
                    <a:pt x="806" y="53"/>
                  </a:lnTo>
                  <a:lnTo>
                    <a:pt x="826" y="64"/>
                  </a:lnTo>
                  <a:lnTo>
                    <a:pt x="840" y="127"/>
                  </a:lnTo>
                  <a:lnTo>
                    <a:pt x="853" y="169"/>
                  </a:lnTo>
                  <a:lnTo>
                    <a:pt x="873" y="253"/>
                  </a:lnTo>
                  <a:lnTo>
                    <a:pt x="886" y="338"/>
                  </a:lnTo>
                  <a:lnTo>
                    <a:pt x="906" y="422"/>
                  </a:lnTo>
                  <a:lnTo>
                    <a:pt x="959" y="464"/>
                  </a:lnTo>
                  <a:lnTo>
                    <a:pt x="1012" y="485"/>
                  </a:lnTo>
                  <a:lnTo>
                    <a:pt x="1026" y="517"/>
                  </a:lnTo>
                  <a:lnTo>
                    <a:pt x="1026" y="580"/>
                  </a:lnTo>
                  <a:lnTo>
                    <a:pt x="1026" y="643"/>
                  </a:lnTo>
                  <a:lnTo>
                    <a:pt x="1026" y="706"/>
                  </a:lnTo>
                  <a:lnTo>
                    <a:pt x="1026" y="748"/>
                  </a:lnTo>
                  <a:lnTo>
                    <a:pt x="1019" y="832"/>
                  </a:lnTo>
                  <a:lnTo>
                    <a:pt x="1012" y="896"/>
                  </a:lnTo>
                  <a:lnTo>
                    <a:pt x="1005" y="980"/>
                  </a:lnTo>
                  <a:lnTo>
                    <a:pt x="999" y="1011"/>
                  </a:lnTo>
                  <a:lnTo>
                    <a:pt x="986" y="1033"/>
                  </a:lnTo>
                  <a:lnTo>
                    <a:pt x="972" y="1054"/>
                  </a:lnTo>
                  <a:lnTo>
                    <a:pt x="959" y="1085"/>
                  </a:lnTo>
                  <a:lnTo>
                    <a:pt x="919" y="1106"/>
                  </a:lnTo>
                  <a:lnTo>
                    <a:pt x="899" y="1127"/>
                  </a:lnTo>
                  <a:lnTo>
                    <a:pt x="886" y="1159"/>
                  </a:lnTo>
                  <a:lnTo>
                    <a:pt x="847" y="1169"/>
                  </a:lnTo>
                  <a:lnTo>
                    <a:pt x="806" y="1190"/>
                  </a:lnTo>
                  <a:lnTo>
                    <a:pt x="800" y="1254"/>
                  </a:lnTo>
                  <a:lnTo>
                    <a:pt x="793" y="1338"/>
                  </a:lnTo>
                  <a:lnTo>
                    <a:pt x="793" y="1369"/>
                  </a:lnTo>
                  <a:lnTo>
                    <a:pt x="793" y="1412"/>
                  </a:lnTo>
                  <a:lnTo>
                    <a:pt x="793" y="1517"/>
                  </a:lnTo>
                  <a:lnTo>
                    <a:pt x="793" y="1548"/>
                  </a:lnTo>
                  <a:lnTo>
                    <a:pt x="793" y="1612"/>
                  </a:lnTo>
                  <a:lnTo>
                    <a:pt x="793" y="1654"/>
                  </a:lnTo>
                  <a:lnTo>
                    <a:pt x="806" y="1759"/>
                  </a:lnTo>
                  <a:lnTo>
                    <a:pt x="847" y="1843"/>
                  </a:lnTo>
                  <a:lnTo>
                    <a:pt x="860" y="1875"/>
                  </a:lnTo>
                  <a:lnTo>
                    <a:pt x="860" y="1938"/>
                  </a:lnTo>
                  <a:lnTo>
                    <a:pt x="853" y="1980"/>
                  </a:lnTo>
                  <a:lnTo>
                    <a:pt x="840" y="2022"/>
                  </a:lnTo>
                  <a:lnTo>
                    <a:pt x="826" y="2085"/>
                  </a:lnTo>
                  <a:lnTo>
                    <a:pt x="813" y="2117"/>
                  </a:lnTo>
                  <a:lnTo>
                    <a:pt x="800" y="2148"/>
                  </a:lnTo>
                  <a:lnTo>
                    <a:pt x="793" y="2243"/>
                  </a:lnTo>
                  <a:lnTo>
                    <a:pt x="780" y="2306"/>
                  </a:lnTo>
                  <a:lnTo>
                    <a:pt x="773" y="2370"/>
                  </a:lnTo>
                  <a:lnTo>
                    <a:pt x="766" y="2433"/>
                  </a:lnTo>
                  <a:lnTo>
                    <a:pt x="760" y="2464"/>
                  </a:lnTo>
                  <a:lnTo>
                    <a:pt x="714" y="2496"/>
                  </a:lnTo>
                  <a:lnTo>
                    <a:pt x="661" y="2517"/>
                  </a:lnTo>
                  <a:lnTo>
                    <a:pt x="634" y="2549"/>
                  </a:lnTo>
                  <a:lnTo>
                    <a:pt x="568" y="2633"/>
                  </a:lnTo>
                  <a:lnTo>
                    <a:pt x="514" y="2696"/>
                  </a:lnTo>
                  <a:lnTo>
                    <a:pt x="508" y="2728"/>
                  </a:lnTo>
                  <a:lnTo>
                    <a:pt x="495" y="2770"/>
                  </a:lnTo>
                  <a:lnTo>
                    <a:pt x="495" y="2833"/>
                  </a:lnTo>
                  <a:lnTo>
                    <a:pt x="495" y="2917"/>
                  </a:lnTo>
                  <a:lnTo>
                    <a:pt x="495" y="2980"/>
                  </a:lnTo>
                  <a:lnTo>
                    <a:pt x="495" y="3064"/>
                  </a:lnTo>
                  <a:lnTo>
                    <a:pt x="495" y="3128"/>
                  </a:lnTo>
                  <a:lnTo>
                    <a:pt x="495" y="3159"/>
                  </a:lnTo>
                  <a:lnTo>
                    <a:pt x="514" y="3191"/>
                  </a:lnTo>
                  <a:lnTo>
                    <a:pt x="541" y="3212"/>
                  </a:lnTo>
                  <a:lnTo>
                    <a:pt x="608" y="3233"/>
                  </a:lnTo>
                  <a:lnTo>
                    <a:pt x="627" y="3264"/>
                  </a:lnTo>
                  <a:lnTo>
                    <a:pt x="634" y="3296"/>
                  </a:lnTo>
                  <a:lnTo>
                    <a:pt x="634" y="3338"/>
                  </a:lnTo>
                  <a:lnTo>
                    <a:pt x="634" y="3422"/>
                  </a:lnTo>
                  <a:lnTo>
                    <a:pt x="634" y="3454"/>
                  </a:lnTo>
                  <a:lnTo>
                    <a:pt x="661" y="3559"/>
                  </a:lnTo>
                  <a:lnTo>
                    <a:pt x="700" y="3580"/>
                  </a:lnTo>
                  <a:lnTo>
                    <a:pt x="740" y="3643"/>
                  </a:lnTo>
                  <a:lnTo>
                    <a:pt x="740" y="3675"/>
                  </a:lnTo>
                  <a:lnTo>
                    <a:pt x="747" y="3717"/>
                  </a:lnTo>
                  <a:lnTo>
                    <a:pt x="747" y="3759"/>
                  </a:lnTo>
                  <a:lnTo>
                    <a:pt x="747" y="3791"/>
                  </a:lnTo>
                  <a:lnTo>
                    <a:pt x="747" y="3875"/>
                  </a:lnTo>
                  <a:lnTo>
                    <a:pt x="747" y="3991"/>
                  </a:lnTo>
                  <a:lnTo>
                    <a:pt x="747" y="4022"/>
                  </a:lnTo>
                  <a:lnTo>
                    <a:pt x="747" y="4054"/>
                  </a:lnTo>
                  <a:lnTo>
                    <a:pt x="753" y="4086"/>
                  </a:lnTo>
                  <a:lnTo>
                    <a:pt x="753" y="4117"/>
                  </a:lnTo>
                  <a:lnTo>
                    <a:pt x="769" y="4180"/>
                  </a:lnTo>
                  <a:lnTo>
                    <a:pt x="13" y="418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30440" cy="6858000"/>
            </a:xfrm>
            <a:custGeom>
              <a:avLst/>
              <a:gdLst/>
              <a:ahLst/>
              <a:rect l="l" t="t" r="r" b="b"/>
              <a:pathLst>
                <a:path w="1027" h="4320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3"/>
                  </a:lnTo>
                  <a:lnTo>
                    <a:pt x="806" y="54"/>
                  </a:lnTo>
                  <a:lnTo>
                    <a:pt x="826" y="65"/>
                  </a:lnTo>
                  <a:lnTo>
                    <a:pt x="840" y="128"/>
                  </a:lnTo>
                  <a:lnTo>
                    <a:pt x="853" y="170"/>
                  </a:lnTo>
                  <a:lnTo>
                    <a:pt x="873" y="254"/>
                  </a:lnTo>
                  <a:lnTo>
                    <a:pt x="886" y="339"/>
                  </a:lnTo>
                  <a:lnTo>
                    <a:pt x="906" y="423"/>
                  </a:lnTo>
                  <a:lnTo>
                    <a:pt x="959" y="465"/>
                  </a:lnTo>
                  <a:lnTo>
                    <a:pt x="1012" y="486"/>
                  </a:lnTo>
                  <a:lnTo>
                    <a:pt x="1026" y="518"/>
                  </a:lnTo>
                  <a:lnTo>
                    <a:pt x="1026" y="581"/>
                  </a:lnTo>
                  <a:lnTo>
                    <a:pt x="1026" y="644"/>
                  </a:lnTo>
                  <a:lnTo>
                    <a:pt x="1026" y="707"/>
                  </a:lnTo>
                  <a:lnTo>
                    <a:pt x="1026" y="749"/>
                  </a:lnTo>
                  <a:lnTo>
                    <a:pt x="1019" y="833"/>
                  </a:lnTo>
                  <a:lnTo>
                    <a:pt x="1012" y="897"/>
                  </a:lnTo>
                  <a:lnTo>
                    <a:pt x="1005" y="981"/>
                  </a:lnTo>
                  <a:lnTo>
                    <a:pt x="999" y="1012"/>
                  </a:lnTo>
                  <a:lnTo>
                    <a:pt x="986" y="1034"/>
                  </a:lnTo>
                  <a:lnTo>
                    <a:pt x="972" y="1055"/>
                  </a:lnTo>
                  <a:lnTo>
                    <a:pt x="959" y="1086"/>
                  </a:lnTo>
                  <a:lnTo>
                    <a:pt x="919" y="1107"/>
                  </a:lnTo>
                  <a:lnTo>
                    <a:pt x="899" y="1128"/>
                  </a:lnTo>
                  <a:lnTo>
                    <a:pt x="886" y="1160"/>
                  </a:lnTo>
                  <a:lnTo>
                    <a:pt x="847" y="1170"/>
                  </a:lnTo>
                  <a:lnTo>
                    <a:pt x="806" y="1191"/>
                  </a:lnTo>
                  <a:lnTo>
                    <a:pt x="800" y="1255"/>
                  </a:lnTo>
                  <a:lnTo>
                    <a:pt x="793" y="1339"/>
                  </a:lnTo>
                  <a:lnTo>
                    <a:pt x="793" y="1370"/>
                  </a:lnTo>
                  <a:lnTo>
                    <a:pt x="793" y="1413"/>
                  </a:lnTo>
                  <a:lnTo>
                    <a:pt x="793" y="1518"/>
                  </a:lnTo>
                  <a:lnTo>
                    <a:pt x="793" y="1549"/>
                  </a:lnTo>
                  <a:lnTo>
                    <a:pt x="793" y="1613"/>
                  </a:lnTo>
                  <a:lnTo>
                    <a:pt x="793" y="1655"/>
                  </a:lnTo>
                  <a:lnTo>
                    <a:pt x="806" y="1760"/>
                  </a:lnTo>
                  <a:lnTo>
                    <a:pt x="847" y="1844"/>
                  </a:lnTo>
                  <a:lnTo>
                    <a:pt x="860" y="1876"/>
                  </a:lnTo>
                  <a:lnTo>
                    <a:pt x="860" y="1939"/>
                  </a:lnTo>
                  <a:lnTo>
                    <a:pt x="853" y="1981"/>
                  </a:lnTo>
                  <a:lnTo>
                    <a:pt x="840" y="2023"/>
                  </a:lnTo>
                  <a:lnTo>
                    <a:pt x="826" y="2086"/>
                  </a:lnTo>
                  <a:lnTo>
                    <a:pt x="813" y="2118"/>
                  </a:lnTo>
                  <a:lnTo>
                    <a:pt x="800" y="2149"/>
                  </a:lnTo>
                  <a:lnTo>
                    <a:pt x="793" y="2244"/>
                  </a:lnTo>
                  <a:lnTo>
                    <a:pt x="780" y="2307"/>
                  </a:lnTo>
                  <a:lnTo>
                    <a:pt x="773" y="2371"/>
                  </a:lnTo>
                  <a:lnTo>
                    <a:pt x="766" y="2434"/>
                  </a:lnTo>
                  <a:lnTo>
                    <a:pt x="760" y="2465"/>
                  </a:lnTo>
                  <a:lnTo>
                    <a:pt x="714" y="2497"/>
                  </a:lnTo>
                  <a:lnTo>
                    <a:pt x="661" y="2518"/>
                  </a:lnTo>
                  <a:lnTo>
                    <a:pt x="634" y="2550"/>
                  </a:lnTo>
                  <a:lnTo>
                    <a:pt x="568" y="2634"/>
                  </a:lnTo>
                  <a:lnTo>
                    <a:pt x="514" y="2697"/>
                  </a:lnTo>
                  <a:lnTo>
                    <a:pt x="508" y="2729"/>
                  </a:lnTo>
                  <a:lnTo>
                    <a:pt x="495" y="2771"/>
                  </a:lnTo>
                  <a:lnTo>
                    <a:pt x="495" y="2834"/>
                  </a:lnTo>
                  <a:lnTo>
                    <a:pt x="495" y="2918"/>
                  </a:lnTo>
                  <a:lnTo>
                    <a:pt x="495" y="2981"/>
                  </a:lnTo>
                  <a:lnTo>
                    <a:pt x="495" y="3065"/>
                  </a:lnTo>
                  <a:lnTo>
                    <a:pt x="495" y="3129"/>
                  </a:lnTo>
                  <a:lnTo>
                    <a:pt x="495" y="3160"/>
                  </a:lnTo>
                  <a:lnTo>
                    <a:pt x="514" y="3192"/>
                  </a:lnTo>
                  <a:lnTo>
                    <a:pt x="541" y="3213"/>
                  </a:lnTo>
                  <a:lnTo>
                    <a:pt x="608" y="3234"/>
                  </a:lnTo>
                  <a:lnTo>
                    <a:pt x="627" y="3265"/>
                  </a:lnTo>
                  <a:lnTo>
                    <a:pt x="634" y="3297"/>
                  </a:lnTo>
                  <a:lnTo>
                    <a:pt x="634" y="3339"/>
                  </a:lnTo>
                  <a:lnTo>
                    <a:pt x="634" y="3423"/>
                  </a:lnTo>
                  <a:lnTo>
                    <a:pt x="634" y="3455"/>
                  </a:lnTo>
                  <a:lnTo>
                    <a:pt x="661" y="3560"/>
                  </a:lnTo>
                  <a:lnTo>
                    <a:pt x="700" y="3581"/>
                  </a:lnTo>
                  <a:lnTo>
                    <a:pt x="740" y="3644"/>
                  </a:lnTo>
                  <a:lnTo>
                    <a:pt x="740" y="3676"/>
                  </a:lnTo>
                  <a:lnTo>
                    <a:pt x="747" y="3718"/>
                  </a:lnTo>
                  <a:lnTo>
                    <a:pt x="747" y="3760"/>
                  </a:lnTo>
                  <a:lnTo>
                    <a:pt x="747" y="3792"/>
                  </a:lnTo>
                  <a:lnTo>
                    <a:pt x="747" y="3876"/>
                  </a:lnTo>
                  <a:lnTo>
                    <a:pt x="747" y="3992"/>
                  </a:lnTo>
                  <a:lnTo>
                    <a:pt x="747" y="4023"/>
                  </a:lnTo>
                  <a:lnTo>
                    <a:pt x="747" y="4055"/>
                  </a:lnTo>
                  <a:lnTo>
                    <a:pt x="753" y="4087"/>
                  </a:lnTo>
                  <a:lnTo>
                    <a:pt x="753" y="4118"/>
                  </a:lnTo>
                  <a:lnTo>
                    <a:pt x="760" y="4150"/>
                  </a:lnTo>
                  <a:lnTo>
                    <a:pt x="760" y="4181"/>
                  </a:lnTo>
                  <a:lnTo>
                    <a:pt x="747" y="4266"/>
                  </a:lnTo>
                  <a:lnTo>
                    <a:pt x="740" y="4297"/>
                  </a:lnTo>
                  <a:lnTo>
                    <a:pt x="727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4" name=""/>
            <p:cNvSpPr/>
            <p:nvPr/>
          </p:nvSpPr>
          <p:spPr>
            <a:xfrm>
              <a:off x="1049400" y="760320"/>
              <a:ext cx="585720" cy="2127240"/>
            </a:xfrm>
            <a:custGeom>
              <a:avLst/>
              <a:gdLst/>
              <a:ahLst/>
              <a:rect l="l" t="t" r="r" b="b"/>
              <a:pathLst>
                <a:path w="369" h="1340">
                  <a:moveTo>
                    <a:pt x="361" y="58"/>
                  </a:moveTo>
                  <a:lnTo>
                    <a:pt x="306" y="73"/>
                  </a:lnTo>
                  <a:lnTo>
                    <a:pt x="306" y="105"/>
                  </a:lnTo>
                  <a:lnTo>
                    <a:pt x="299" y="136"/>
                  </a:lnTo>
                  <a:lnTo>
                    <a:pt x="299" y="168"/>
                  </a:lnTo>
                  <a:lnTo>
                    <a:pt x="299" y="200"/>
                  </a:lnTo>
                  <a:lnTo>
                    <a:pt x="292" y="231"/>
                  </a:lnTo>
                  <a:lnTo>
                    <a:pt x="285" y="263"/>
                  </a:lnTo>
                  <a:lnTo>
                    <a:pt x="285" y="294"/>
                  </a:lnTo>
                  <a:lnTo>
                    <a:pt x="285" y="326"/>
                  </a:lnTo>
                  <a:lnTo>
                    <a:pt x="285" y="357"/>
                  </a:lnTo>
                  <a:lnTo>
                    <a:pt x="279" y="379"/>
                  </a:lnTo>
                  <a:lnTo>
                    <a:pt x="272" y="410"/>
                  </a:lnTo>
                  <a:lnTo>
                    <a:pt x="266" y="442"/>
                  </a:lnTo>
                  <a:lnTo>
                    <a:pt x="239" y="463"/>
                  </a:lnTo>
                  <a:lnTo>
                    <a:pt x="219" y="463"/>
                  </a:lnTo>
                  <a:lnTo>
                    <a:pt x="199" y="463"/>
                  </a:lnTo>
                  <a:lnTo>
                    <a:pt x="179" y="463"/>
                  </a:lnTo>
                  <a:lnTo>
                    <a:pt x="159" y="505"/>
                  </a:lnTo>
                  <a:lnTo>
                    <a:pt x="139" y="526"/>
                  </a:lnTo>
                  <a:lnTo>
                    <a:pt x="119" y="526"/>
                  </a:lnTo>
                  <a:lnTo>
                    <a:pt x="99" y="536"/>
                  </a:lnTo>
                  <a:lnTo>
                    <a:pt x="79" y="558"/>
                  </a:lnTo>
                  <a:lnTo>
                    <a:pt x="60" y="579"/>
                  </a:lnTo>
                  <a:lnTo>
                    <a:pt x="46" y="610"/>
                  </a:lnTo>
                  <a:lnTo>
                    <a:pt x="39" y="642"/>
                  </a:lnTo>
                  <a:lnTo>
                    <a:pt x="39" y="673"/>
                  </a:lnTo>
                  <a:lnTo>
                    <a:pt x="53" y="705"/>
                  </a:lnTo>
                  <a:lnTo>
                    <a:pt x="39" y="736"/>
                  </a:lnTo>
                  <a:lnTo>
                    <a:pt x="26" y="758"/>
                  </a:lnTo>
                  <a:lnTo>
                    <a:pt x="6" y="800"/>
                  </a:lnTo>
                  <a:lnTo>
                    <a:pt x="0" y="842"/>
                  </a:lnTo>
                  <a:lnTo>
                    <a:pt x="19" y="873"/>
                  </a:lnTo>
                  <a:lnTo>
                    <a:pt x="39" y="884"/>
                  </a:lnTo>
                  <a:lnTo>
                    <a:pt x="46" y="915"/>
                  </a:lnTo>
                  <a:lnTo>
                    <a:pt x="53" y="937"/>
                  </a:lnTo>
                  <a:lnTo>
                    <a:pt x="53" y="968"/>
                  </a:lnTo>
                  <a:lnTo>
                    <a:pt x="39" y="1010"/>
                  </a:lnTo>
                  <a:lnTo>
                    <a:pt x="39" y="1042"/>
                  </a:lnTo>
                  <a:lnTo>
                    <a:pt x="26" y="1073"/>
                  </a:lnTo>
                  <a:lnTo>
                    <a:pt x="19" y="1105"/>
                  </a:lnTo>
                  <a:lnTo>
                    <a:pt x="26" y="1137"/>
                  </a:lnTo>
                  <a:lnTo>
                    <a:pt x="53" y="1158"/>
                  </a:lnTo>
                  <a:lnTo>
                    <a:pt x="73" y="1189"/>
                  </a:lnTo>
                  <a:lnTo>
                    <a:pt x="79" y="1221"/>
                  </a:lnTo>
                  <a:lnTo>
                    <a:pt x="86" y="1252"/>
                  </a:lnTo>
                  <a:lnTo>
                    <a:pt x="106" y="1263"/>
                  </a:lnTo>
                  <a:lnTo>
                    <a:pt x="126" y="1284"/>
                  </a:lnTo>
                  <a:lnTo>
                    <a:pt x="161" y="1339"/>
                  </a:lnTo>
                  <a:lnTo>
                    <a:pt x="151" y="1312"/>
                  </a:lnTo>
                  <a:lnTo>
                    <a:pt x="142" y="1261"/>
                  </a:lnTo>
                  <a:lnTo>
                    <a:pt x="134" y="1228"/>
                  </a:lnTo>
                  <a:lnTo>
                    <a:pt x="127" y="1165"/>
                  </a:lnTo>
                  <a:lnTo>
                    <a:pt x="130" y="1129"/>
                  </a:lnTo>
                  <a:lnTo>
                    <a:pt x="127" y="1087"/>
                  </a:lnTo>
                  <a:lnTo>
                    <a:pt x="127" y="997"/>
                  </a:lnTo>
                  <a:lnTo>
                    <a:pt x="130" y="910"/>
                  </a:lnTo>
                  <a:lnTo>
                    <a:pt x="134" y="823"/>
                  </a:lnTo>
                  <a:lnTo>
                    <a:pt x="134" y="787"/>
                  </a:lnTo>
                  <a:lnTo>
                    <a:pt x="142" y="736"/>
                  </a:lnTo>
                  <a:lnTo>
                    <a:pt x="158" y="709"/>
                  </a:lnTo>
                  <a:lnTo>
                    <a:pt x="185" y="700"/>
                  </a:lnTo>
                  <a:lnTo>
                    <a:pt x="223" y="688"/>
                  </a:lnTo>
                  <a:lnTo>
                    <a:pt x="242" y="652"/>
                  </a:lnTo>
                  <a:lnTo>
                    <a:pt x="263" y="628"/>
                  </a:lnTo>
                  <a:lnTo>
                    <a:pt x="290" y="619"/>
                  </a:lnTo>
                  <a:lnTo>
                    <a:pt x="304" y="592"/>
                  </a:lnTo>
                  <a:lnTo>
                    <a:pt x="340" y="538"/>
                  </a:lnTo>
                  <a:lnTo>
                    <a:pt x="340" y="496"/>
                  </a:lnTo>
                  <a:lnTo>
                    <a:pt x="352" y="430"/>
                  </a:lnTo>
                  <a:lnTo>
                    <a:pt x="359" y="358"/>
                  </a:lnTo>
                  <a:lnTo>
                    <a:pt x="364" y="298"/>
                  </a:lnTo>
                  <a:lnTo>
                    <a:pt x="364" y="262"/>
                  </a:lnTo>
                  <a:lnTo>
                    <a:pt x="364" y="226"/>
                  </a:lnTo>
                  <a:lnTo>
                    <a:pt x="368" y="184"/>
                  </a:lnTo>
                  <a:lnTo>
                    <a:pt x="368" y="124"/>
                  </a:lnTo>
                  <a:lnTo>
                    <a:pt x="364" y="94"/>
                  </a:lnTo>
                  <a:lnTo>
                    <a:pt x="338" y="52"/>
                  </a:lnTo>
                  <a:lnTo>
                    <a:pt x="345" y="10"/>
                  </a:lnTo>
                  <a:lnTo>
                    <a:pt x="326" y="0"/>
                  </a:lnTo>
                  <a:lnTo>
                    <a:pt x="338" y="4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040" y="2895480"/>
              <a:ext cx="814320" cy="2187720"/>
            </a:xfrm>
            <a:custGeom>
              <a:avLst/>
              <a:gdLst/>
              <a:ahLst/>
              <a:rect l="l" t="t" r="r" b="b"/>
              <a:pathLst>
                <a:path w="513" h="1378">
                  <a:moveTo>
                    <a:pt x="498" y="0"/>
                  </a:moveTo>
                  <a:lnTo>
                    <a:pt x="477" y="61"/>
                  </a:lnTo>
                  <a:lnTo>
                    <a:pt x="471" y="93"/>
                  </a:lnTo>
                  <a:lnTo>
                    <a:pt x="451" y="114"/>
                  </a:lnTo>
                  <a:lnTo>
                    <a:pt x="444" y="145"/>
                  </a:lnTo>
                  <a:lnTo>
                    <a:pt x="444" y="167"/>
                  </a:lnTo>
                  <a:lnTo>
                    <a:pt x="451" y="198"/>
                  </a:lnTo>
                  <a:lnTo>
                    <a:pt x="444" y="230"/>
                  </a:lnTo>
                  <a:lnTo>
                    <a:pt x="444" y="261"/>
                  </a:lnTo>
                  <a:lnTo>
                    <a:pt x="424" y="282"/>
                  </a:lnTo>
                  <a:lnTo>
                    <a:pt x="404" y="293"/>
                  </a:lnTo>
                  <a:lnTo>
                    <a:pt x="385" y="303"/>
                  </a:lnTo>
                  <a:lnTo>
                    <a:pt x="358" y="324"/>
                  </a:lnTo>
                  <a:lnTo>
                    <a:pt x="358" y="346"/>
                  </a:lnTo>
                  <a:lnTo>
                    <a:pt x="358" y="377"/>
                  </a:lnTo>
                  <a:lnTo>
                    <a:pt x="358" y="409"/>
                  </a:lnTo>
                  <a:lnTo>
                    <a:pt x="344" y="419"/>
                  </a:lnTo>
                  <a:lnTo>
                    <a:pt x="318" y="440"/>
                  </a:lnTo>
                  <a:lnTo>
                    <a:pt x="285" y="493"/>
                  </a:lnTo>
                  <a:lnTo>
                    <a:pt x="265" y="493"/>
                  </a:lnTo>
                  <a:lnTo>
                    <a:pt x="225" y="514"/>
                  </a:lnTo>
                  <a:lnTo>
                    <a:pt x="186" y="567"/>
                  </a:lnTo>
                  <a:lnTo>
                    <a:pt x="186" y="598"/>
                  </a:lnTo>
                  <a:lnTo>
                    <a:pt x="179" y="672"/>
                  </a:lnTo>
                  <a:lnTo>
                    <a:pt x="152" y="682"/>
                  </a:lnTo>
                  <a:lnTo>
                    <a:pt x="133" y="682"/>
                  </a:lnTo>
                  <a:lnTo>
                    <a:pt x="112" y="703"/>
                  </a:lnTo>
                  <a:lnTo>
                    <a:pt x="73" y="725"/>
                  </a:lnTo>
                  <a:lnTo>
                    <a:pt x="33" y="777"/>
                  </a:lnTo>
                  <a:lnTo>
                    <a:pt x="33" y="809"/>
                  </a:lnTo>
                  <a:lnTo>
                    <a:pt x="39" y="872"/>
                  </a:lnTo>
                  <a:lnTo>
                    <a:pt x="13" y="935"/>
                  </a:lnTo>
                  <a:lnTo>
                    <a:pt x="0" y="967"/>
                  </a:lnTo>
                  <a:lnTo>
                    <a:pt x="0" y="1030"/>
                  </a:lnTo>
                  <a:lnTo>
                    <a:pt x="6" y="1093"/>
                  </a:lnTo>
                  <a:lnTo>
                    <a:pt x="13" y="1156"/>
                  </a:lnTo>
                  <a:lnTo>
                    <a:pt x="13" y="1240"/>
                  </a:lnTo>
                  <a:lnTo>
                    <a:pt x="33" y="1304"/>
                  </a:lnTo>
                  <a:lnTo>
                    <a:pt x="33" y="1367"/>
                  </a:lnTo>
                  <a:lnTo>
                    <a:pt x="73" y="1377"/>
                  </a:lnTo>
                  <a:lnTo>
                    <a:pt x="93" y="1377"/>
                  </a:lnTo>
                  <a:lnTo>
                    <a:pt x="133" y="1377"/>
                  </a:lnTo>
                  <a:lnTo>
                    <a:pt x="143" y="1358"/>
                  </a:lnTo>
                  <a:lnTo>
                    <a:pt x="146" y="1313"/>
                  </a:lnTo>
                  <a:lnTo>
                    <a:pt x="146" y="1247"/>
                  </a:lnTo>
                  <a:lnTo>
                    <a:pt x="146" y="1178"/>
                  </a:lnTo>
                  <a:lnTo>
                    <a:pt x="146" y="1115"/>
                  </a:lnTo>
                  <a:lnTo>
                    <a:pt x="143" y="1049"/>
                  </a:lnTo>
                  <a:lnTo>
                    <a:pt x="148" y="977"/>
                  </a:lnTo>
                  <a:lnTo>
                    <a:pt x="155" y="923"/>
                  </a:lnTo>
                  <a:lnTo>
                    <a:pt x="163" y="878"/>
                  </a:lnTo>
                  <a:lnTo>
                    <a:pt x="196" y="842"/>
                  </a:lnTo>
                  <a:lnTo>
                    <a:pt x="220" y="812"/>
                  </a:lnTo>
                  <a:lnTo>
                    <a:pt x="238" y="779"/>
                  </a:lnTo>
                  <a:lnTo>
                    <a:pt x="269" y="752"/>
                  </a:lnTo>
                  <a:lnTo>
                    <a:pt x="286" y="728"/>
                  </a:lnTo>
                  <a:lnTo>
                    <a:pt x="310" y="698"/>
                  </a:lnTo>
                  <a:lnTo>
                    <a:pt x="341" y="689"/>
                  </a:lnTo>
                  <a:lnTo>
                    <a:pt x="361" y="677"/>
                  </a:lnTo>
                  <a:lnTo>
                    <a:pt x="380" y="665"/>
                  </a:lnTo>
                  <a:lnTo>
                    <a:pt x="409" y="650"/>
                  </a:lnTo>
                  <a:lnTo>
                    <a:pt x="416" y="620"/>
                  </a:lnTo>
                  <a:lnTo>
                    <a:pt x="421" y="581"/>
                  </a:lnTo>
                  <a:lnTo>
                    <a:pt x="421" y="548"/>
                  </a:lnTo>
                  <a:lnTo>
                    <a:pt x="431" y="479"/>
                  </a:lnTo>
                  <a:lnTo>
                    <a:pt x="443" y="419"/>
                  </a:lnTo>
                  <a:lnTo>
                    <a:pt x="445" y="371"/>
                  </a:lnTo>
                  <a:lnTo>
                    <a:pt x="455" y="320"/>
                  </a:lnTo>
                  <a:lnTo>
                    <a:pt x="467" y="296"/>
                  </a:lnTo>
                  <a:lnTo>
                    <a:pt x="481" y="266"/>
                  </a:lnTo>
                  <a:lnTo>
                    <a:pt x="481" y="236"/>
                  </a:lnTo>
                  <a:lnTo>
                    <a:pt x="491" y="206"/>
                  </a:lnTo>
                  <a:lnTo>
                    <a:pt x="496" y="176"/>
                  </a:lnTo>
                  <a:lnTo>
                    <a:pt x="512" y="128"/>
                  </a:lnTo>
                  <a:lnTo>
                    <a:pt x="508" y="74"/>
                  </a:lnTo>
                  <a:lnTo>
                    <a:pt x="498" y="0"/>
                  </a:lnTo>
                  <a:lnTo>
                    <a:pt x="498" y="0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28800" y="5165640"/>
              <a:ext cx="282600" cy="1693800"/>
            </a:xfrm>
            <a:custGeom>
              <a:avLst/>
              <a:gdLst/>
              <a:ahLst/>
              <a:rect l="l" t="t" r="r" b="b"/>
              <a:pathLst>
                <a:path w="178" h="1067">
                  <a:moveTo>
                    <a:pt x="0" y="26"/>
                  </a:moveTo>
                  <a:lnTo>
                    <a:pt x="20" y="0"/>
                  </a:lnTo>
                  <a:lnTo>
                    <a:pt x="47" y="38"/>
                  </a:lnTo>
                  <a:lnTo>
                    <a:pt x="50" y="77"/>
                  </a:lnTo>
                  <a:lnTo>
                    <a:pt x="45" y="133"/>
                  </a:lnTo>
                  <a:lnTo>
                    <a:pt x="45" y="208"/>
                  </a:lnTo>
                  <a:lnTo>
                    <a:pt x="60" y="256"/>
                  </a:lnTo>
                  <a:lnTo>
                    <a:pt x="69" y="279"/>
                  </a:lnTo>
                  <a:lnTo>
                    <a:pt x="80" y="302"/>
                  </a:lnTo>
                  <a:lnTo>
                    <a:pt x="119" y="336"/>
                  </a:lnTo>
                  <a:lnTo>
                    <a:pt x="158" y="396"/>
                  </a:lnTo>
                  <a:lnTo>
                    <a:pt x="161" y="434"/>
                  </a:lnTo>
                  <a:lnTo>
                    <a:pt x="165" y="476"/>
                  </a:lnTo>
                  <a:lnTo>
                    <a:pt x="161" y="538"/>
                  </a:lnTo>
                  <a:lnTo>
                    <a:pt x="167" y="583"/>
                  </a:lnTo>
                  <a:lnTo>
                    <a:pt x="158" y="649"/>
                  </a:lnTo>
                  <a:lnTo>
                    <a:pt x="161" y="681"/>
                  </a:lnTo>
                  <a:lnTo>
                    <a:pt x="161" y="714"/>
                  </a:lnTo>
                  <a:lnTo>
                    <a:pt x="165" y="744"/>
                  </a:lnTo>
                  <a:lnTo>
                    <a:pt x="160" y="784"/>
                  </a:lnTo>
                  <a:lnTo>
                    <a:pt x="166" y="825"/>
                  </a:lnTo>
                  <a:lnTo>
                    <a:pt x="166" y="856"/>
                  </a:lnTo>
                  <a:lnTo>
                    <a:pt x="173" y="888"/>
                  </a:lnTo>
                  <a:lnTo>
                    <a:pt x="177" y="923"/>
                  </a:lnTo>
                  <a:lnTo>
                    <a:pt x="173" y="950"/>
                  </a:lnTo>
                  <a:lnTo>
                    <a:pt x="173" y="982"/>
                  </a:lnTo>
                  <a:lnTo>
                    <a:pt x="166" y="1013"/>
                  </a:lnTo>
                  <a:lnTo>
                    <a:pt x="146" y="1066"/>
                  </a:lnTo>
                  <a:lnTo>
                    <a:pt x="26" y="1065"/>
                  </a:lnTo>
                  <a:lnTo>
                    <a:pt x="48" y="1034"/>
                  </a:lnTo>
                  <a:lnTo>
                    <a:pt x="61" y="1003"/>
                  </a:lnTo>
                  <a:lnTo>
                    <a:pt x="80" y="982"/>
                  </a:lnTo>
                  <a:lnTo>
                    <a:pt x="94" y="960"/>
                  </a:lnTo>
                  <a:lnTo>
                    <a:pt x="101" y="930"/>
                  </a:lnTo>
                  <a:lnTo>
                    <a:pt x="94" y="888"/>
                  </a:lnTo>
                  <a:lnTo>
                    <a:pt x="94" y="846"/>
                  </a:lnTo>
                  <a:lnTo>
                    <a:pt x="80" y="804"/>
                  </a:lnTo>
                  <a:lnTo>
                    <a:pt x="74" y="773"/>
                  </a:lnTo>
                  <a:lnTo>
                    <a:pt x="61" y="741"/>
                  </a:lnTo>
                  <a:lnTo>
                    <a:pt x="74" y="710"/>
                  </a:lnTo>
                  <a:lnTo>
                    <a:pt x="80" y="637"/>
                  </a:lnTo>
                  <a:lnTo>
                    <a:pt x="87" y="606"/>
                  </a:lnTo>
                  <a:lnTo>
                    <a:pt x="87" y="584"/>
                  </a:lnTo>
                  <a:lnTo>
                    <a:pt x="87" y="542"/>
                  </a:lnTo>
                  <a:lnTo>
                    <a:pt x="80" y="512"/>
                  </a:lnTo>
                  <a:lnTo>
                    <a:pt x="80" y="438"/>
                  </a:lnTo>
                  <a:lnTo>
                    <a:pt x="67" y="407"/>
                  </a:lnTo>
                  <a:lnTo>
                    <a:pt x="61" y="386"/>
                  </a:lnTo>
                  <a:lnTo>
                    <a:pt x="54" y="302"/>
                  </a:lnTo>
                  <a:lnTo>
                    <a:pt x="45" y="300"/>
                  </a:lnTo>
                  <a:lnTo>
                    <a:pt x="24" y="250"/>
                  </a:lnTo>
                  <a:lnTo>
                    <a:pt x="18" y="208"/>
                  </a:lnTo>
                  <a:lnTo>
                    <a:pt x="15" y="119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720" y="0"/>
              <a:ext cx="434880" cy="611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0"/>
                  </a:moveTo>
                  <a:lnTo>
                    <a:pt x="111" y="0"/>
                  </a:lnTo>
                  <a:lnTo>
                    <a:pt x="147" y="18"/>
                  </a:lnTo>
                  <a:lnTo>
                    <a:pt x="171" y="39"/>
                  </a:lnTo>
                  <a:lnTo>
                    <a:pt x="201" y="72"/>
                  </a:lnTo>
                  <a:lnTo>
                    <a:pt x="219" y="132"/>
                  </a:lnTo>
                  <a:lnTo>
                    <a:pt x="234" y="165"/>
                  </a:lnTo>
                  <a:lnTo>
                    <a:pt x="239" y="222"/>
                  </a:lnTo>
                  <a:lnTo>
                    <a:pt x="255" y="288"/>
                  </a:lnTo>
                  <a:lnTo>
                    <a:pt x="273" y="384"/>
                  </a:lnTo>
                  <a:lnTo>
                    <a:pt x="217" y="370"/>
                  </a:lnTo>
                  <a:lnTo>
                    <a:pt x="203" y="339"/>
                  </a:lnTo>
                  <a:lnTo>
                    <a:pt x="183" y="307"/>
                  </a:lnTo>
                  <a:lnTo>
                    <a:pt x="170" y="275"/>
                  </a:lnTo>
                  <a:lnTo>
                    <a:pt x="156" y="202"/>
                  </a:lnTo>
                  <a:lnTo>
                    <a:pt x="143" y="170"/>
                  </a:lnTo>
                  <a:lnTo>
                    <a:pt x="130" y="139"/>
                  </a:lnTo>
                  <a:lnTo>
                    <a:pt x="76" y="97"/>
                  </a:lnTo>
                  <a:lnTo>
                    <a:pt x="63" y="75"/>
                  </a:lnTo>
                  <a:lnTo>
                    <a:pt x="43" y="65"/>
                  </a:lnTo>
                  <a:lnTo>
                    <a:pt x="27" y="21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92280" y="3579840"/>
              <a:ext cx="365040" cy="534960"/>
            </a:xfrm>
            <a:custGeom>
              <a:avLst/>
              <a:gdLst/>
              <a:ahLst/>
              <a:rect l="l" t="t" r="r" b="b"/>
              <a:pathLst>
                <a:path w="230" h="337">
                  <a:moveTo>
                    <a:pt x="229" y="0"/>
                  </a:moveTo>
                  <a:lnTo>
                    <a:pt x="191" y="62"/>
                  </a:lnTo>
                  <a:lnTo>
                    <a:pt x="165" y="83"/>
                  </a:lnTo>
                  <a:lnTo>
                    <a:pt x="145" y="94"/>
                  </a:lnTo>
                  <a:lnTo>
                    <a:pt x="118" y="136"/>
                  </a:lnTo>
                  <a:lnTo>
                    <a:pt x="118" y="167"/>
                  </a:lnTo>
                  <a:lnTo>
                    <a:pt x="118" y="199"/>
                  </a:lnTo>
                  <a:lnTo>
                    <a:pt x="118" y="231"/>
                  </a:lnTo>
                  <a:lnTo>
                    <a:pt x="105" y="262"/>
                  </a:lnTo>
                  <a:lnTo>
                    <a:pt x="86" y="273"/>
                  </a:lnTo>
                  <a:lnTo>
                    <a:pt x="66" y="283"/>
                  </a:lnTo>
                  <a:lnTo>
                    <a:pt x="45" y="304"/>
                  </a:lnTo>
                  <a:lnTo>
                    <a:pt x="26" y="315"/>
                  </a:lnTo>
                  <a:lnTo>
                    <a:pt x="6" y="336"/>
                  </a:lnTo>
                  <a:lnTo>
                    <a:pt x="0" y="304"/>
                  </a:lnTo>
                  <a:lnTo>
                    <a:pt x="19" y="273"/>
                  </a:lnTo>
                  <a:lnTo>
                    <a:pt x="45" y="252"/>
                  </a:lnTo>
                  <a:lnTo>
                    <a:pt x="59" y="220"/>
                  </a:lnTo>
                  <a:lnTo>
                    <a:pt x="72" y="178"/>
                  </a:lnTo>
                  <a:lnTo>
                    <a:pt x="79" y="136"/>
                  </a:lnTo>
                  <a:lnTo>
                    <a:pt x="79" y="104"/>
                  </a:lnTo>
                  <a:lnTo>
                    <a:pt x="132" y="73"/>
                  </a:lnTo>
                  <a:lnTo>
                    <a:pt x="152" y="73"/>
                  </a:lnTo>
                  <a:lnTo>
                    <a:pt x="178" y="30"/>
                  </a:lnTo>
                  <a:lnTo>
                    <a:pt x="198" y="9"/>
                  </a:lnTo>
                  <a:lnTo>
                    <a:pt x="229" y="0"/>
                  </a:lnTo>
                  <a:lnTo>
                    <a:pt x="229" y="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2920" y="538200"/>
              <a:ext cx="245880" cy="368280"/>
            </a:xfrm>
            <a:custGeom>
              <a:avLst/>
              <a:gdLst/>
              <a:ahLst/>
              <a:rect l="l" t="t" r="r" b="b"/>
              <a:pathLst>
                <a:path w="155" h="232">
                  <a:moveTo>
                    <a:pt x="20" y="10"/>
                  </a:moveTo>
                  <a:lnTo>
                    <a:pt x="20" y="52"/>
                  </a:lnTo>
                  <a:lnTo>
                    <a:pt x="20" y="84"/>
                  </a:lnTo>
                  <a:lnTo>
                    <a:pt x="6" y="94"/>
                  </a:lnTo>
                  <a:lnTo>
                    <a:pt x="0" y="126"/>
                  </a:lnTo>
                  <a:lnTo>
                    <a:pt x="6" y="158"/>
                  </a:lnTo>
                  <a:lnTo>
                    <a:pt x="20" y="158"/>
                  </a:lnTo>
                  <a:lnTo>
                    <a:pt x="39" y="168"/>
                  </a:lnTo>
                  <a:lnTo>
                    <a:pt x="59" y="189"/>
                  </a:lnTo>
                  <a:lnTo>
                    <a:pt x="79" y="221"/>
                  </a:lnTo>
                  <a:lnTo>
                    <a:pt x="99" y="231"/>
                  </a:lnTo>
                  <a:lnTo>
                    <a:pt x="118" y="231"/>
                  </a:lnTo>
                  <a:lnTo>
                    <a:pt x="154" y="228"/>
                  </a:lnTo>
                  <a:lnTo>
                    <a:pt x="154" y="189"/>
                  </a:lnTo>
                  <a:lnTo>
                    <a:pt x="150" y="138"/>
                  </a:lnTo>
                  <a:lnTo>
                    <a:pt x="132" y="126"/>
                  </a:lnTo>
                  <a:lnTo>
                    <a:pt x="118" y="117"/>
                  </a:lnTo>
                  <a:lnTo>
                    <a:pt x="96" y="105"/>
                  </a:lnTo>
                  <a:lnTo>
                    <a:pt x="72" y="75"/>
                  </a:lnTo>
                  <a:lnTo>
                    <a:pt x="64" y="33"/>
                  </a:lnTo>
                  <a:lnTo>
                    <a:pt x="52" y="0"/>
                  </a:lnTo>
                  <a:lnTo>
                    <a:pt x="20" y="1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4D70-B4AB-4A1E-BB19-DA3B126B9CE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52" name=""/>
            <p:cNvSpPr/>
            <p:nvPr/>
          </p:nvSpPr>
          <p:spPr>
            <a:xfrm>
              <a:off x="1419120" y="220680"/>
              <a:ext cx="1636920" cy="6642000"/>
            </a:xfrm>
            <a:custGeom>
              <a:avLst/>
              <a:gdLst/>
              <a:ahLst/>
              <a:rect l="l" t="t" r="r" b="b"/>
              <a:pathLst>
                <a:path w="1031" h="4184">
                  <a:moveTo>
                    <a:pt x="0" y="0"/>
                  </a:moveTo>
                  <a:lnTo>
                    <a:pt x="728" y="0"/>
                  </a:lnTo>
                  <a:lnTo>
                    <a:pt x="743" y="0"/>
                  </a:lnTo>
                  <a:lnTo>
                    <a:pt x="790" y="23"/>
                  </a:lnTo>
                  <a:lnTo>
                    <a:pt x="809" y="54"/>
                  </a:lnTo>
                  <a:lnTo>
                    <a:pt x="830" y="65"/>
                  </a:lnTo>
                  <a:lnTo>
                    <a:pt x="843" y="128"/>
                  </a:lnTo>
                  <a:lnTo>
                    <a:pt x="856" y="170"/>
                  </a:lnTo>
                  <a:lnTo>
                    <a:pt x="876" y="254"/>
                  </a:lnTo>
                  <a:lnTo>
                    <a:pt x="890" y="339"/>
                  </a:lnTo>
                  <a:lnTo>
                    <a:pt x="909" y="423"/>
                  </a:lnTo>
                  <a:lnTo>
                    <a:pt x="962" y="465"/>
                  </a:lnTo>
                  <a:lnTo>
                    <a:pt x="1016" y="486"/>
                  </a:lnTo>
                  <a:lnTo>
                    <a:pt x="1030" y="518"/>
                  </a:lnTo>
                  <a:lnTo>
                    <a:pt x="1030" y="581"/>
                  </a:lnTo>
                  <a:lnTo>
                    <a:pt x="1030" y="644"/>
                  </a:lnTo>
                  <a:lnTo>
                    <a:pt x="1030" y="707"/>
                  </a:lnTo>
                  <a:lnTo>
                    <a:pt x="1030" y="749"/>
                  </a:lnTo>
                  <a:lnTo>
                    <a:pt x="1023" y="833"/>
                  </a:lnTo>
                  <a:lnTo>
                    <a:pt x="1016" y="897"/>
                  </a:lnTo>
                  <a:lnTo>
                    <a:pt x="1009" y="981"/>
                  </a:lnTo>
                  <a:lnTo>
                    <a:pt x="1003" y="1012"/>
                  </a:lnTo>
                  <a:lnTo>
                    <a:pt x="990" y="1034"/>
                  </a:lnTo>
                  <a:lnTo>
                    <a:pt x="976" y="1055"/>
                  </a:lnTo>
                  <a:lnTo>
                    <a:pt x="962" y="1086"/>
                  </a:lnTo>
                  <a:lnTo>
                    <a:pt x="923" y="1107"/>
                  </a:lnTo>
                  <a:lnTo>
                    <a:pt x="903" y="1128"/>
                  </a:lnTo>
                  <a:lnTo>
                    <a:pt x="890" y="1160"/>
                  </a:lnTo>
                  <a:lnTo>
                    <a:pt x="850" y="1170"/>
                  </a:lnTo>
                  <a:lnTo>
                    <a:pt x="809" y="1191"/>
                  </a:lnTo>
                  <a:lnTo>
                    <a:pt x="803" y="1255"/>
                  </a:lnTo>
                  <a:lnTo>
                    <a:pt x="796" y="1339"/>
                  </a:lnTo>
                  <a:lnTo>
                    <a:pt x="796" y="1370"/>
                  </a:lnTo>
                  <a:lnTo>
                    <a:pt x="796" y="1413"/>
                  </a:lnTo>
                  <a:lnTo>
                    <a:pt x="796" y="1518"/>
                  </a:lnTo>
                  <a:lnTo>
                    <a:pt x="796" y="1549"/>
                  </a:lnTo>
                  <a:lnTo>
                    <a:pt x="796" y="1613"/>
                  </a:lnTo>
                  <a:lnTo>
                    <a:pt x="796" y="1655"/>
                  </a:lnTo>
                  <a:lnTo>
                    <a:pt x="809" y="1760"/>
                  </a:lnTo>
                  <a:lnTo>
                    <a:pt x="850" y="1844"/>
                  </a:lnTo>
                  <a:lnTo>
                    <a:pt x="863" y="1876"/>
                  </a:lnTo>
                  <a:lnTo>
                    <a:pt x="863" y="1939"/>
                  </a:lnTo>
                  <a:lnTo>
                    <a:pt x="856" y="1981"/>
                  </a:lnTo>
                  <a:lnTo>
                    <a:pt x="843" y="2023"/>
                  </a:lnTo>
                  <a:lnTo>
                    <a:pt x="830" y="2086"/>
                  </a:lnTo>
                  <a:lnTo>
                    <a:pt x="816" y="2119"/>
                  </a:lnTo>
                  <a:lnTo>
                    <a:pt x="803" y="2150"/>
                  </a:lnTo>
                  <a:lnTo>
                    <a:pt x="796" y="2245"/>
                  </a:lnTo>
                  <a:lnTo>
                    <a:pt x="783" y="2308"/>
                  </a:lnTo>
                  <a:lnTo>
                    <a:pt x="776" y="2372"/>
                  </a:lnTo>
                  <a:lnTo>
                    <a:pt x="769" y="2435"/>
                  </a:lnTo>
                  <a:lnTo>
                    <a:pt x="763" y="2466"/>
                  </a:lnTo>
                  <a:lnTo>
                    <a:pt x="716" y="2498"/>
                  </a:lnTo>
                  <a:lnTo>
                    <a:pt x="663" y="2519"/>
                  </a:lnTo>
                  <a:lnTo>
                    <a:pt x="637" y="2551"/>
                  </a:lnTo>
                  <a:lnTo>
                    <a:pt x="570" y="2635"/>
                  </a:lnTo>
                  <a:lnTo>
                    <a:pt x="516" y="2698"/>
                  </a:lnTo>
                  <a:lnTo>
                    <a:pt x="510" y="2730"/>
                  </a:lnTo>
                  <a:lnTo>
                    <a:pt x="497" y="2772"/>
                  </a:lnTo>
                  <a:lnTo>
                    <a:pt x="497" y="2835"/>
                  </a:lnTo>
                  <a:lnTo>
                    <a:pt x="497" y="2919"/>
                  </a:lnTo>
                  <a:lnTo>
                    <a:pt x="497" y="2982"/>
                  </a:lnTo>
                  <a:lnTo>
                    <a:pt x="497" y="3066"/>
                  </a:lnTo>
                  <a:lnTo>
                    <a:pt x="497" y="3130"/>
                  </a:lnTo>
                  <a:lnTo>
                    <a:pt x="497" y="3161"/>
                  </a:lnTo>
                  <a:lnTo>
                    <a:pt x="516" y="3193"/>
                  </a:lnTo>
                  <a:lnTo>
                    <a:pt x="543" y="3214"/>
                  </a:lnTo>
                  <a:lnTo>
                    <a:pt x="610" y="3235"/>
                  </a:lnTo>
                  <a:lnTo>
                    <a:pt x="630" y="3266"/>
                  </a:lnTo>
                  <a:lnTo>
                    <a:pt x="637" y="3298"/>
                  </a:lnTo>
                  <a:lnTo>
                    <a:pt x="637" y="3340"/>
                  </a:lnTo>
                  <a:lnTo>
                    <a:pt x="637" y="3424"/>
                  </a:lnTo>
                  <a:lnTo>
                    <a:pt x="637" y="3456"/>
                  </a:lnTo>
                  <a:lnTo>
                    <a:pt x="663" y="3561"/>
                  </a:lnTo>
                  <a:lnTo>
                    <a:pt x="703" y="3582"/>
                  </a:lnTo>
                  <a:lnTo>
                    <a:pt x="743" y="3645"/>
                  </a:lnTo>
                  <a:lnTo>
                    <a:pt x="743" y="3677"/>
                  </a:lnTo>
                  <a:lnTo>
                    <a:pt x="750" y="3719"/>
                  </a:lnTo>
                  <a:lnTo>
                    <a:pt x="750" y="3761"/>
                  </a:lnTo>
                  <a:lnTo>
                    <a:pt x="750" y="3793"/>
                  </a:lnTo>
                  <a:lnTo>
                    <a:pt x="750" y="3877"/>
                  </a:lnTo>
                  <a:lnTo>
                    <a:pt x="750" y="3993"/>
                  </a:lnTo>
                  <a:lnTo>
                    <a:pt x="750" y="4024"/>
                  </a:lnTo>
                  <a:lnTo>
                    <a:pt x="750" y="4056"/>
                  </a:lnTo>
                  <a:lnTo>
                    <a:pt x="756" y="4088"/>
                  </a:lnTo>
                  <a:lnTo>
                    <a:pt x="756" y="4119"/>
                  </a:lnTo>
                  <a:lnTo>
                    <a:pt x="772" y="4183"/>
                  </a:lnTo>
                  <a:lnTo>
                    <a:pt x="13" y="418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2898720" cy="6858000"/>
              </a:xfrm>
              <a:custGeom>
                <a:avLst/>
                <a:gdLst/>
                <a:ahLst/>
                <a:rect l="l" t="t" r="r" b="b"/>
                <a:pathLst>
                  <a:path w="1826" h="4320">
                    <a:moveTo>
                      <a:pt x="0" y="0"/>
                    </a:moveTo>
                    <a:lnTo>
                      <a:pt x="1527" y="0"/>
                    </a:lnTo>
                    <a:lnTo>
                      <a:pt x="1542" y="0"/>
                    </a:lnTo>
                    <a:lnTo>
                      <a:pt x="1588" y="23"/>
                    </a:lnTo>
                    <a:lnTo>
                      <a:pt x="1607" y="54"/>
                    </a:lnTo>
                    <a:lnTo>
                      <a:pt x="1627" y="65"/>
                    </a:lnTo>
                    <a:lnTo>
                      <a:pt x="1640" y="128"/>
                    </a:lnTo>
                    <a:lnTo>
                      <a:pt x="1653" y="170"/>
                    </a:lnTo>
                    <a:lnTo>
                      <a:pt x="1673" y="254"/>
                    </a:lnTo>
                    <a:lnTo>
                      <a:pt x="1687" y="339"/>
                    </a:lnTo>
                    <a:lnTo>
                      <a:pt x="1706" y="423"/>
                    </a:lnTo>
                    <a:lnTo>
                      <a:pt x="1758" y="465"/>
                    </a:lnTo>
                    <a:lnTo>
                      <a:pt x="1811" y="486"/>
                    </a:lnTo>
                    <a:lnTo>
                      <a:pt x="1825" y="518"/>
                    </a:lnTo>
                    <a:lnTo>
                      <a:pt x="1825" y="581"/>
                    </a:lnTo>
                    <a:lnTo>
                      <a:pt x="1825" y="644"/>
                    </a:lnTo>
                    <a:lnTo>
                      <a:pt x="1825" y="707"/>
                    </a:lnTo>
                    <a:lnTo>
                      <a:pt x="1825" y="749"/>
                    </a:lnTo>
                    <a:lnTo>
                      <a:pt x="1818" y="833"/>
                    </a:lnTo>
                    <a:lnTo>
                      <a:pt x="1811" y="897"/>
                    </a:lnTo>
                    <a:lnTo>
                      <a:pt x="1805" y="981"/>
                    </a:lnTo>
                    <a:lnTo>
                      <a:pt x="1798" y="1012"/>
                    </a:lnTo>
                    <a:lnTo>
                      <a:pt x="1785" y="1034"/>
                    </a:lnTo>
                    <a:lnTo>
                      <a:pt x="1771" y="1055"/>
                    </a:lnTo>
                    <a:lnTo>
                      <a:pt x="1758" y="1086"/>
                    </a:lnTo>
                    <a:lnTo>
                      <a:pt x="1719" y="1107"/>
                    </a:lnTo>
                    <a:lnTo>
                      <a:pt x="1700" y="1128"/>
                    </a:lnTo>
                    <a:lnTo>
                      <a:pt x="1687" y="1160"/>
                    </a:lnTo>
                    <a:lnTo>
                      <a:pt x="1647" y="1170"/>
                    </a:lnTo>
                    <a:lnTo>
                      <a:pt x="1607" y="1191"/>
                    </a:lnTo>
                    <a:lnTo>
                      <a:pt x="1601" y="1255"/>
                    </a:lnTo>
                    <a:lnTo>
                      <a:pt x="1594" y="1339"/>
                    </a:lnTo>
                    <a:lnTo>
                      <a:pt x="1594" y="1370"/>
                    </a:lnTo>
                    <a:lnTo>
                      <a:pt x="1594" y="1413"/>
                    </a:lnTo>
                    <a:lnTo>
                      <a:pt x="1594" y="1518"/>
                    </a:lnTo>
                    <a:lnTo>
                      <a:pt x="1594" y="1549"/>
                    </a:lnTo>
                    <a:lnTo>
                      <a:pt x="1594" y="1613"/>
                    </a:lnTo>
                    <a:lnTo>
                      <a:pt x="1594" y="1655"/>
                    </a:lnTo>
                    <a:lnTo>
                      <a:pt x="1607" y="1760"/>
                    </a:lnTo>
                    <a:lnTo>
                      <a:pt x="1647" y="1844"/>
                    </a:lnTo>
                    <a:lnTo>
                      <a:pt x="1660" y="1876"/>
                    </a:lnTo>
                    <a:lnTo>
                      <a:pt x="1660" y="1939"/>
                    </a:lnTo>
                    <a:lnTo>
                      <a:pt x="1653" y="1981"/>
                    </a:lnTo>
                    <a:lnTo>
                      <a:pt x="1640" y="2023"/>
                    </a:lnTo>
                    <a:lnTo>
                      <a:pt x="1627" y="2086"/>
                    </a:lnTo>
                    <a:lnTo>
                      <a:pt x="1614" y="2118"/>
                    </a:lnTo>
                    <a:lnTo>
                      <a:pt x="1601" y="2149"/>
                    </a:lnTo>
                    <a:lnTo>
                      <a:pt x="1594" y="2244"/>
                    </a:lnTo>
                    <a:lnTo>
                      <a:pt x="1581" y="2307"/>
                    </a:lnTo>
                    <a:lnTo>
                      <a:pt x="1575" y="2371"/>
                    </a:lnTo>
                    <a:lnTo>
                      <a:pt x="1568" y="2434"/>
                    </a:lnTo>
                    <a:lnTo>
                      <a:pt x="1562" y="2465"/>
                    </a:lnTo>
                    <a:lnTo>
                      <a:pt x="1515" y="2497"/>
                    </a:lnTo>
                    <a:lnTo>
                      <a:pt x="1463" y="2518"/>
                    </a:lnTo>
                    <a:lnTo>
                      <a:pt x="1437" y="2550"/>
                    </a:lnTo>
                    <a:lnTo>
                      <a:pt x="1371" y="2634"/>
                    </a:lnTo>
                    <a:lnTo>
                      <a:pt x="1318" y="2697"/>
                    </a:lnTo>
                    <a:lnTo>
                      <a:pt x="1312" y="2729"/>
                    </a:lnTo>
                    <a:lnTo>
                      <a:pt x="1299" y="2771"/>
                    </a:lnTo>
                    <a:lnTo>
                      <a:pt x="1299" y="2834"/>
                    </a:lnTo>
                    <a:lnTo>
                      <a:pt x="1299" y="2918"/>
                    </a:lnTo>
                    <a:lnTo>
                      <a:pt x="1299" y="2981"/>
                    </a:lnTo>
                    <a:lnTo>
                      <a:pt x="1299" y="3065"/>
                    </a:lnTo>
                    <a:lnTo>
                      <a:pt x="1299" y="3129"/>
                    </a:lnTo>
                    <a:lnTo>
                      <a:pt x="1299" y="3160"/>
                    </a:lnTo>
                    <a:lnTo>
                      <a:pt x="1318" y="3192"/>
                    </a:lnTo>
                    <a:lnTo>
                      <a:pt x="1344" y="3213"/>
                    </a:lnTo>
                    <a:lnTo>
                      <a:pt x="1411" y="3234"/>
                    </a:lnTo>
                    <a:lnTo>
                      <a:pt x="1430" y="3265"/>
                    </a:lnTo>
                    <a:lnTo>
                      <a:pt x="1437" y="3297"/>
                    </a:lnTo>
                    <a:lnTo>
                      <a:pt x="1437" y="3339"/>
                    </a:lnTo>
                    <a:lnTo>
                      <a:pt x="1437" y="3423"/>
                    </a:lnTo>
                    <a:lnTo>
                      <a:pt x="1437" y="3455"/>
                    </a:lnTo>
                    <a:lnTo>
                      <a:pt x="1463" y="3560"/>
                    </a:lnTo>
                    <a:lnTo>
                      <a:pt x="1502" y="3581"/>
                    </a:lnTo>
                    <a:lnTo>
                      <a:pt x="1542" y="3644"/>
                    </a:lnTo>
                    <a:lnTo>
                      <a:pt x="1542" y="3676"/>
                    </a:lnTo>
                    <a:lnTo>
                      <a:pt x="1549" y="3718"/>
                    </a:lnTo>
                    <a:lnTo>
                      <a:pt x="1549" y="3760"/>
                    </a:lnTo>
                    <a:lnTo>
                      <a:pt x="1549" y="3792"/>
                    </a:lnTo>
                    <a:lnTo>
                      <a:pt x="1549" y="3876"/>
                    </a:lnTo>
                    <a:lnTo>
                      <a:pt x="1549" y="3992"/>
                    </a:lnTo>
                    <a:lnTo>
                      <a:pt x="1549" y="4023"/>
                    </a:lnTo>
                    <a:lnTo>
                      <a:pt x="1549" y="4055"/>
                    </a:lnTo>
                    <a:lnTo>
                      <a:pt x="1555" y="4087"/>
                    </a:lnTo>
                    <a:lnTo>
                      <a:pt x="1555" y="4118"/>
                    </a:lnTo>
                    <a:lnTo>
                      <a:pt x="1562" y="4150"/>
                    </a:lnTo>
                    <a:lnTo>
                      <a:pt x="1562" y="4181"/>
                    </a:lnTo>
                    <a:lnTo>
                      <a:pt x="1549" y="4266"/>
                    </a:lnTo>
                    <a:lnTo>
                      <a:pt x="1542" y="4297"/>
                    </a:lnTo>
                    <a:lnTo>
                      <a:pt x="1529" y="4319"/>
                    </a:lnTo>
                    <a:lnTo>
                      <a:pt x="0" y="43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44680" y="758880"/>
                <a:ext cx="585720" cy="2124000"/>
              </a:xfrm>
              <a:custGeom>
                <a:avLst/>
                <a:gdLst/>
                <a:ahLst/>
                <a:rect l="l" t="t" r="r" b="b"/>
                <a:pathLst>
                  <a:path w="369" h="1338">
                    <a:moveTo>
                      <a:pt x="361" y="57"/>
                    </a:moveTo>
                    <a:lnTo>
                      <a:pt x="306" y="72"/>
                    </a:lnTo>
                    <a:lnTo>
                      <a:pt x="306" y="104"/>
                    </a:lnTo>
                    <a:lnTo>
                      <a:pt x="299" y="135"/>
                    </a:lnTo>
                    <a:lnTo>
                      <a:pt x="299" y="167"/>
                    </a:lnTo>
                    <a:lnTo>
                      <a:pt x="299" y="199"/>
                    </a:lnTo>
                    <a:lnTo>
                      <a:pt x="292" y="230"/>
                    </a:lnTo>
                    <a:lnTo>
                      <a:pt x="285" y="262"/>
                    </a:lnTo>
                    <a:lnTo>
                      <a:pt x="285" y="293"/>
                    </a:lnTo>
                    <a:lnTo>
                      <a:pt x="285" y="325"/>
                    </a:lnTo>
                    <a:lnTo>
                      <a:pt x="285" y="356"/>
                    </a:lnTo>
                    <a:lnTo>
                      <a:pt x="279" y="378"/>
                    </a:lnTo>
                    <a:lnTo>
                      <a:pt x="272" y="409"/>
                    </a:lnTo>
                    <a:lnTo>
                      <a:pt x="266" y="441"/>
                    </a:lnTo>
                    <a:lnTo>
                      <a:pt x="239" y="462"/>
                    </a:lnTo>
                    <a:lnTo>
                      <a:pt x="219" y="462"/>
                    </a:lnTo>
                    <a:lnTo>
                      <a:pt x="199" y="462"/>
                    </a:lnTo>
                    <a:lnTo>
                      <a:pt x="179" y="462"/>
                    </a:lnTo>
                    <a:lnTo>
                      <a:pt x="159" y="504"/>
                    </a:lnTo>
                    <a:lnTo>
                      <a:pt x="139" y="525"/>
                    </a:lnTo>
                    <a:lnTo>
                      <a:pt x="119" y="525"/>
                    </a:lnTo>
                    <a:lnTo>
                      <a:pt x="99" y="535"/>
                    </a:lnTo>
                    <a:lnTo>
                      <a:pt x="79" y="557"/>
                    </a:lnTo>
                    <a:lnTo>
                      <a:pt x="60" y="578"/>
                    </a:lnTo>
                    <a:lnTo>
                      <a:pt x="46" y="609"/>
                    </a:lnTo>
                    <a:lnTo>
                      <a:pt x="39" y="641"/>
                    </a:lnTo>
                    <a:lnTo>
                      <a:pt x="39" y="671"/>
                    </a:lnTo>
                    <a:lnTo>
                      <a:pt x="53" y="703"/>
                    </a:lnTo>
                    <a:lnTo>
                      <a:pt x="39" y="734"/>
                    </a:lnTo>
                    <a:lnTo>
                      <a:pt x="26" y="756"/>
                    </a:lnTo>
                    <a:lnTo>
                      <a:pt x="6" y="798"/>
                    </a:lnTo>
                    <a:lnTo>
                      <a:pt x="0" y="840"/>
                    </a:lnTo>
                    <a:lnTo>
                      <a:pt x="19" y="871"/>
                    </a:lnTo>
                    <a:lnTo>
                      <a:pt x="39" y="882"/>
                    </a:lnTo>
                    <a:lnTo>
                      <a:pt x="46" y="913"/>
                    </a:lnTo>
                    <a:lnTo>
                      <a:pt x="53" y="935"/>
                    </a:lnTo>
                    <a:lnTo>
                      <a:pt x="53" y="966"/>
                    </a:lnTo>
                    <a:lnTo>
                      <a:pt x="39" y="1008"/>
                    </a:lnTo>
                    <a:lnTo>
                      <a:pt x="39" y="1040"/>
                    </a:lnTo>
                    <a:lnTo>
                      <a:pt x="26" y="1071"/>
                    </a:lnTo>
                    <a:lnTo>
                      <a:pt x="19" y="1103"/>
                    </a:lnTo>
                    <a:lnTo>
                      <a:pt x="26" y="1135"/>
                    </a:lnTo>
                    <a:lnTo>
                      <a:pt x="53" y="1156"/>
                    </a:lnTo>
                    <a:lnTo>
                      <a:pt x="73" y="1187"/>
                    </a:lnTo>
                    <a:lnTo>
                      <a:pt x="79" y="1219"/>
                    </a:lnTo>
                    <a:lnTo>
                      <a:pt x="86" y="1250"/>
                    </a:lnTo>
                    <a:lnTo>
                      <a:pt x="106" y="1261"/>
                    </a:lnTo>
                    <a:lnTo>
                      <a:pt x="126" y="1282"/>
                    </a:lnTo>
                    <a:lnTo>
                      <a:pt x="161" y="1337"/>
                    </a:lnTo>
                    <a:lnTo>
                      <a:pt x="151" y="1310"/>
                    </a:lnTo>
                    <a:lnTo>
                      <a:pt x="142" y="1259"/>
                    </a:lnTo>
                    <a:lnTo>
                      <a:pt x="134" y="1226"/>
                    </a:lnTo>
                    <a:lnTo>
                      <a:pt x="127" y="1163"/>
                    </a:lnTo>
                    <a:lnTo>
                      <a:pt x="130" y="1127"/>
                    </a:lnTo>
                    <a:lnTo>
                      <a:pt x="127" y="1085"/>
                    </a:lnTo>
                    <a:lnTo>
                      <a:pt x="127" y="995"/>
                    </a:lnTo>
                    <a:lnTo>
                      <a:pt x="130" y="908"/>
                    </a:lnTo>
                    <a:lnTo>
                      <a:pt x="134" y="821"/>
                    </a:lnTo>
                    <a:lnTo>
                      <a:pt x="134" y="785"/>
                    </a:lnTo>
                    <a:lnTo>
                      <a:pt x="142" y="734"/>
                    </a:lnTo>
                    <a:lnTo>
                      <a:pt x="158" y="707"/>
                    </a:lnTo>
                    <a:lnTo>
                      <a:pt x="185" y="698"/>
                    </a:lnTo>
                    <a:lnTo>
                      <a:pt x="223" y="686"/>
                    </a:lnTo>
                    <a:lnTo>
                      <a:pt x="242" y="651"/>
                    </a:lnTo>
                    <a:lnTo>
                      <a:pt x="263" y="627"/>
                    </a:lnTo>
                    <a:lnTo>
                      <a:pt x="290" y="618"/>
                    </a:lnTo>
                    <a:lnTo>
                      <a:pt x="304" y="591"/>
                    </a:lnTo>
                    <a:lnTo>
                      <a:pt x="340" y="537"/>
                    </a:lnTo>
                    <a:lnTo>
                      <a:pt x="340" y="495"/>
                    </a:lnTo>
                    <a:lnTo>
                      <a:pt x="352" y="429"/>
                    </a:lnTo>
                    <a:lnTo>
                      <a:pt x="359" y="357"/>
                    </a:lnTo>
                    <a:lnTo>
                      <a:pt x="364" y="297"/>
                    </a:lnTo>
                    <a:lnTo>
                      <a:pt x="364" y="261"/>
                    </a:lnTo>
                    <a:lnTo>
                      <a:pt x="364" y="225"/>
                    </a:lnTo>
                    <a:lnTo>
                      <a:pt x="368" y="183"/>
                    </a:lnTo>
                    <a:lnTo>
                      <a:pt x="368" y="123"/>
                    </a:lnTo>
                    <a:lnTo>
                      <a:pt x="364" y="93"/>
                    </a:lnTo>
                    <a:lnTo>
                      <a:pt x="338" y="51"/>
                    </a:lnTo>
                    <a:lnTo>
                      <a:pt x="345" y="9"/>
                    </a:lnTo>
                    <a:lnTo>
                      <a:pt x="326" y="0"/>
                    </a:lnTo>
                    <a:lnTo>
                      <a:pt x="338" y="3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49320" y="2890800"/>
                <a:ext cx="814680" cy="2181240"/>
              </a:xfrm>
              <a:custGeom>
                <a:avLst/>
                <a:gdLst/>
                <a:ahLst/>
                <a:rect l="l" t="t" r="r" b="b"/>
                <a:pathLst>
                  <a:path w="513" h="1374">
                    <a:moveTo>
                      <a:pt x="498" y="0"/>
                    </a:moveTo>
                    <a:lnTo>
                      <a:pt x="477" y="61"/>
                    </a:lnTo>
                    <a:lnTo>
                      <a:pt x="471" y="93"/>
                    </a:lnTo>
                    <a:lnTo>
                      <a:pt x="451" y="114"/>
                    </a:lnTo>
                    <a:lnTo>
                      <a:pt x="444" y="145"/>
                    </a:lnTo>
                    <a:lnTo>
                      <a:pt x="444" y="167"/>
                    </a:lnTo>
                    <a:lnTo>
                      <a:pt x="451" y="198"/>
                    </a:lnTo>
                    <a:lnTo>
                      <a:pt x="444" y="230"/>
                    </a:lnTo>
                    <a:lnTo>
                      <a:pt x="444" y="261"/>
                    </a:lnTo>
                    <a:lnTo>
                      <a:pt x="424" y="281"/>
                    </a:lnTo>
                    <a:lnTo>
                      <a:pt x="404" y="292"/>
                    </a:lnTo>
                    <a:lnTo>
                      <a:pt x="385" y="302"/>
                    </a:lnTo>
                    <a:lnTo>
                      <a:pt x="358" y="323"/>
                    </a:lnTo>
                    <a:lnTo>
                      <a:pt x="358" y="345"/>
                    </a:lnTo>
                    <a:lnTo>
                      <a:pt x="358" y="376"/>
                    </a:lnTo>
                    <a:lnTo>
                      <a:pt x="358" y="408"/>
                    </a:lnTo>
                    <a:lnTo>
                      <a:pt x="344" y="418"/>
                    </a:lnTo>
                    <a:lnTo>
                      <a:pt x="318" y="439"/>
                    </a:lnTo>
                    <a:lnTo>
                      <a:pt x="285" y="492"/>
                    </a:lnTo>
                    <a:lnTo>
                      <a:pt x="265" y="492"/>
                    </a:lnTo>
                    <a:lnTo>
                      <a:pt x="225" y="513"/>
                    </a:lnTo>
                    <a:lnTo>
                      <a:pt x="186" y="565"/>
                    </a:lnTo>
                    <a:lnTo>
                      <a:pt x="186" y="596"/>
                    </a:lnTo>
                    <a:lnTo>
                      <a:pt x="179" y="670"/>
                    </a:lnTo>
                    <a:lnTo>
                      <a:pt x="152" y="680"/>
                    </a:lnTo>
                    <a:lnTo>
                      <a:pt x="133" y="680"/>
                    </a:lnTo>
                    <a:lnTo>
                      <a:pt x="112" y="701"/>
                    </a:lnTo>
                    <a:lnTo>
                      <a:pt x="73" y="723"/>
                    </a:lnTo>
                    <a:lnTo>
                      <a:pt x="33" y="775"/>
                    </a:lnTo>
                    <a:lnTo>
                      <a:pt x="33" y="807"/>
                    </a:lnTo>
                    <a:lnTo>
                      <a:pt x="39" y="869"/>
                    </a:lnTo>
                    <a:lnTo>
                      <a:pt x="13" y="932"/>
                    </a:lnTo>
                    <a:lnTo>
                      <a:pt x="0" y="964"/>
                    </a:lnTo>
                    <a:lnTo>
                      <a:pt x="0" y="1027"/>
                    </a:lnTo>
                    <a:lnTo>
                      <a:pt x="6" y="1090"/>
                    </a:lnTo>
                    <a:lnTo>
                      <a:pt x="13" y="1152"/>
                    </a:lnTo>
                    <a:lnTo>
                      <a:pt x="13" y="1236"/>
                    </a:lnTo>
                    <a:lnTo>
                      <a:pt x="33" y="1300"/>
                    </a:lnTo>
                    <a:lnTo>
                      <a:pt x="33" y="1363"/>
                    </a:lnTo>
                    <a:lnTo>
                      <a:pt x="73" y="1373"/>
                    </a:lnTo>
                    <a:lnTo>
                      <a:pt x="93" y="1373"/>
                    </a:lnTo>
                    <a:lnTo>
                      <a:pt x="133" y="1373"/>
                    </a:lnTo>
                    <a:lnTo>
                      <a:pt x="143" y="1354"/>
                    </a:lnTo>
                    <a:lnTo>
                      <a:pt x="146" y="1309"/>
                    </a:lnTo>
                    <a:lnTo>
                      <a:pt x="146" y="1243"/>
                    </a:lnTo>
                    <a:lnTo>
                      <a:pt x="146" y="1174"/>
                    </a:lnTo>
                    <a:lnTo>
                      <a:pt x="146" y="1111"/>
                    </a:lnTo>
                    <a:lnTo>
                      <a:pt x="143" y="1046"/>
                    </a:lnTo>
                    <a:lnTo>
                      <a:pt x="148" y="974"/>
                    </a:lnTo>
                    <a:lnTo>
                      <a:pt x="155" y="920"/>
                    </a:lnTo>
                    <a:lnTo>
                      <a:pt x="163" y="875"/>
                    </a:lnTo>
                    <a:lnTo>
                      <a:pt x="196" y="839"/>
                    </a:lnTo>
                    <a:lnTo>
                      <a:pt x="220" y="810"/>
                    </a:lnTo>
                    <a:lnTo>
                      <a:pt x="238" y="777"/>
                    </a:lnTo>
                    <a:lnTo>
                      <a:pt x="269" y="750"/>
                    </a:lnTo>
                    <a:lnTo>
                      <a:pt x="286" y="726"/>
                    </a:lnTo>
                    <a:lnTo>
                      <a:pt x="310" y="696"/>
                    </a:lnTo>
                    <a:lnTo>
                      <a:pt x="341" y="687"/>
                    </a:lnTo>
                    <a:lnTo>
                      <a:pt x="361" y="675"/>
                    </a:lnTo>
                    <a:lnTo>
                      <a:pt x="380" y="663"/>
                    </a:lnTo>
                    <a:lnTo>
                      <a:pt x="409" y="648"/>
                    </a:lnTo>
                    <a:lnTo>
                      <a:pt x="416" y="618"/>
                    </a:lnTo>
                    <a:lnTo>
                      <a:pt x="421" y="579"/>
                    </a:lnTo>
                    <a:lnTo>
                      <a:pt x="421" y="547"/>
                    </a:lnTo>
                    <a:lnTo>
                      <a:pt x="431" y="478"/>
                    </a:lnTo>
                    <a:lnTo>
                      <a:pt x="443" y="418"/>
                    </a:lnTo>
                    <a:lnTo>
                      <a:pt x="445" y="370"/>
                    </a:lnTo>
                    <a:lnTo>
                      <a:pt x="455" y="319"/>
                    </a:lnTo>
                    <a:lnTo>
                      <a:pt x="467" y="295"/>
                    </a:lnTo>
                    <a:lnTo>
                      <a:pt x="481" y="266"/>
                    </a:lnTo>
                    <a:lnTo>
                      <a:pt x="481" y="236"/>
                    </a:lnTo>
                    <a:lnTo>
                      <a:pt x="491" y="206"/>
                    </a:lnTo>
                    <a:lnTo>
                      <a:pt x="496" y="176"/>
                    </a:lnTo>
                    <a:lnTo>
                      <a:pt x="512" y="128"/>
                    </a:lnTo>
                    <a:lnTo>
                      <a:pt x="508" y="74"/>
                    </a:lnTo>
                    <a:lnTo>
                      <a:pt x="498" y="0"/>
                    </a:lnTo>
                    <a:lnTo>
                      <a:pt x="498" y="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24080" y="5154480"/>
                <a:ext cx="282600" cy="1708200"/>
              </a:xfrm>
              <a:custGeom>
                <a:avLst/>
                <a:gdLst/>
                <a:ahLst/>
                <a:rect l="l" t="t" r="r" b="b"/>
                <a:pathLst>
                  <a:path w="178" h="1076">
                    <a:moveTo>
                      <a:pt x="0" y="27"/>
                    </a:moveTo>
                    <a:lnTo>
                      <a:pt x="20" y="0"/>
                    </a:lnTo>
                    <a:lnTo>
                      <a:pt x="47" y="39"/>
                    </a:lnTo>
                    <a:lnTo>
                      <a:pt x="50" y="78"/>
                    </a:lnTo>
                    <a:lnTo>
                      <a:pt x="45" y="135"/>
                    </a:lnTo>
                    <a:lnTo>
                      <a:pt x="45" y="210"/>
                    </a:lnTo>
                    <a:lnTo>
                      <a:pt x="60" y="258"/>
                    </a:lnTo>
                    <a:lnTo>
                      <a:pt x="69" y="282"/>
                    </a:lnTo>
                    <a:lnTo>
                      <a:pt x="80" y="305"/>
                    </a:lnTo>
                    <a:lnTo>
                      <a:pt x="119" y="339"/>
                    </a:lnTo>
                    <a:lnTo>
                      <a:pt x="158" y="399"/>
                    </a:lnTo>
                    <a:lnTo>
                      <a:pt x="161" y="438"/>
                    </a:lnTo>
                    <a:lnTo>
                      <a:pt x="165" y="480"/>
                    </a:lnTo>
                    <a:lnTo>
                      <a:pt x="161" y="543"/>
                    </a:lnTo>
                    <a:lnTo>
                      <a:pt x="167" y="588"/>
                    </a:lnTo>
                    <a:lnTo>
                      <a:pt x="158" y="654"/>
                    </a:lnTo>
                    <a:lnTo>
                      <a:pt x="161" y="687"/>
                    </a:lnTo>
                    <a:lnTo>
                      <a:pt x="161" y="720"/>
                    </a:lnTo>
                    <a:lnTo>
                      <a:pt x="165" y="750"/>
                    </a:lnTo>
                    <a:lnTo>
                      <a:pt x="160" y="790"/>
                    </a:lnTo>
                    <a:lnTo>
                      <a:pt x="166" y="832"/>
                    </a:lnTo>
                    <a:lnTo>
                      <a:pt x="166" y="863"/>
                    </a:lnTo>
                    <a:lnTo>
                      <a:pt x="173" y="895"/>
                    </a:lnTo>
                    <a:lnTo>
                      <a:pt x="177" y="930"/>
                    </a:lnTo>
                    <a:lnTo>
                      <a:pt x="173" y="958"/>
                    </a:lnTo>
                    <a:lnTo>
                      <a:pt x="173" y="990"/>
                    </a:lnTo>
                    <a:lnTo>
                      <a:pt x="166" y="1021"/>
                    </a:lnTo>
                    <a:lnTo>
                      <a:pt x="146" y="1075"/>
                    </a:lnTo>
                    <a:lnTo>
                      <a:pt x="26" y="1073"/>
                    </a:lnTo>
                    <a:lnTo>
                      <a:pt x="48" y="1042"/>
                    </a:lnTo>
                    <a:lnTo>
                      <a:pt x="61" y="1011"/>
                    </a:lnTo>
                    <a:lnTo>
                      <a:pt x="80" y="990"/>
                    </a:lnTo>
                    <a:lnTo>
                      <a:pt x="94" y="968"/>
                    </a:lnTo>
                    <a:lnTo>
                      <a:pt x="101" y="937"/>
                    </a:lnTo>
                    <a:lnTo>
                      <a:pt x="94" y="895"/>
                    </a:lnTo>
                    <a:lnTo>
                      <a:pt x="94" y="853"/>
                    </a:lnTo>
                    <a:lnTo>
                      <a:pt x="80" y="811"/>
                    </a:lnTo>
                    <a:lnTo>
                      <a:pt x="74" y="779"/>
                    </a:lnTo>
                    <a:lnTo>
                      <a:pt x="61" y="747"/>
                    </a:lnTo>
                    <a:lnTo>
                      <a:pt x="74" y="716"/>
                    </a:lnTo>
                    <a:lnTo>
                      <a:pt x="80" y="642"/>
                    </a:lnTo>
                    <a:lnTo>
                      <a:pt x="87" y="611"/>
                    </a:lnTo>
                    <a:lnTo>
                      <a:pt x="87" y="589"/>
                    </a:lnTo>
                    <a:lnTo>
                      <a:pt x="87" y="547"/>
                    </a:lnTo>
                    <a:lnTo>
                      <a:pt x="80" y="516"/>
                    </a:lnTo>
                    <a:lnTo>
                      <a:pt x="80" y="442"/>
                    </a:lnTo>
                    <a:lnTo>
                      <a:pt x="67" y="411"/>
                    </a:lnTo>
                    <a:lnTo>
                      <a:pt x="61" y="389"/>
                    </a:lnTo>
                    <a:lnTo>
                      <a:pt x="54" y="305"/>
                    </a:lnTo>
                    <a:lnTo>
                      <a:pt x="45" y="303"/>
                    </a:lnTo>
                    <a:lnTo>
                      <a:pt x="24" y="252"/>
                    </a:lnTo>
                    <a:lnTo>
                      <a:pt x="18" y="210"/>
                    </a:lnTo>
                    <a:lnTo>
                      <a:pt x="15" y="1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0"/>
                <a:ext cx="434880" cy="609480"/>
              </a:xfrm>
              <a:custGeom>
                <a:avLst/>
                <a:gdLst/>
                <a:ahLst/>
                <a:rect l="l" t="t" r="r" b="b"/>
                <a:pathLst>
                  <a:path w="274" h="384">
                    <a:moveTo>
                      <a:pt x="0" y="0"/>
                    </a:moveTo>
                    <a:lnTo>
                      <a:pt x="111" y="0"/>
                    </a:lnTo>
                    <a:lnTo>
                      <a:pt x="147" y="17"/>
                    </a:lnTo>
                    <a:lnTo>
                      <a:pt x="171" y="38"/>
                    </a:lnTo>
                    <a:lnTo>
                      <a:pt x="201" y="71"/>
                    </a:lnTo>
                    <a:lnTo>
                      <a:pt x="219" y="131"/>
                    </a:lnTo>
                    <a:lnTo>
                      <a:pt x="234" y="164"/>
                    </a:lnTo>
                    <a:lnTo>
                      <a:pt x="239" y="221"/>
                    </a:lnTo>
                    <a:lnTo>
                      <a:pt x="255" y="287"/>
                    </a:lnTo>
                    <a:lnTo>
                      <a:pt x="273" y="383"/>
                    </a:lnTo>
                    <a:lnTo>
                      <a:pt x="217" y="369"/>
                    </a:lnTo>
                    <a:lnTo>
                      <a:pt x="203" y="338"/>
                    </a:lnTo>
                    <a:lnTo>
                      <a:pt x="183" y="306"/>
                    </a:lnTo>
                    <a:lnTo>
                      <a:pt x="170" y="274"/>
                    </a:lnTo>
                    <a:lnTo>
                      <a:pt x="156" y="201"/>
                    </a:lnTo>
                    <a:lnTo>
                      <a:pt x="143" y="169"/>
                    </a:lnTo>
                    <a:lnTo>
                      <a:pt x="130" y="138"/>
                    </a:lnTo>
                    <a:lnTo>
                      <a:pt x="76" y="96"/>
                    </a:lnTo>
                    <a:lnTo>
                      <a:pt x="63" y="74"/>
                    </a:lnTo>
                    <a:lnTo>
                      <a:pt x="43" y="64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87560" y="3571920"/>
                <a:ext cx="365040" cy="533520"/>
              </a:xfrm>
              <a:custGeom>
                <a:avLst/>
                <a:gdLst/>
                <a:ahLst/>
                <a:rect l="l" t="t" r="r" b="b"/>
                <a:pathLst>
                  <a:path w="230" h="336">
                    <a:moveTo>
                      <a:pt x="229" y="0"/>
                    </a:moveTo>
                    <a:lnTo>
                      <a:pt x="191" y="61"/>
                    </a:lnTo>
                    <a:lnTo>
                      <a:pt x="165" y="82"/>
                    </a:lnTo>
                    <a:lnTo>
                      <a:pt x="145" y="93"/>
                    </a:lnTo>
                    <a:lnTo>
                      <a:pt x="118" y="135"/>
                    </a:lnTo>
                    <a:lnTo>
                      <a:pt x="118" y="166"/>
                    </a:lnTo>
                    <a:lnTo>
                      <a:pt x="118" y="198"/>
                    </a:lnTo>
                    <a:lnTo>
                      <a:pt x="118" y="230"/>
                    </a:lnTo>
                    <a:lnTo>
                      <a:pt x="105" y="261"/>
                    </a:lnTo>
                    <a:lnTo>
                      <a:pt x="86" y="272"/>
                    </a:lnTo>
                    <a:lnTo>
                      <a:pt x="66" y="282"/>
                    </a:lnTo>
                    <a:lnTo>
                      <a:pt x="45" y="303"/>
                    </a:lnTo>
                    <a:lnTo>
                      <a:pt x="26" y="314"/>
                    </a:lnTo>
                    <a:lnTo>
                      <a:pt x="6" y="335"/>
                    </a:lnTo>
                    <a:lnTo>
                      <a:pt x="0" y="303"/>
                    </a:lnTo>
                    <a:lnTo>
                      <a:pt x="19" y="272"/>
                    </a:lnTo>
                    <a:lnTo>
                      <a:pt x="45" y="251"/>
                    </a:lnTo>
                    <a:lnTo>
                      <a:pt x="59" y="219"/>
                    </a:lnTo>
                    <a:lnTo>
                      <a:pt x="72" y="177"/>
                    </a:lnTo>
                    <a:lnTo>
                      <a:pt x="79" y="135"/>
                    </a:lnTo>
                    <a:lnTo>
                      <a:pt x="79" y="103"/>
                    </a:lnTo>
                    <a:lnTo>
                      <a:pt x="132" y="72"/>
                    </a:lnTo>
                    <a:lnTo>
                      <a:pt x="152" y="72"/>
                    </a:lnTo>
                    <a:lnTo>
                      <a:pt x="178" y="29"/>
                    </a:lnTo>
                    <a:lnTo>
                      <a:pt x="198" y="8"/>
                    </a:lnTo>
                    <a:lnTo>
                      <a:pt x="229" y="0"/>
                    </a:lnTo>
                    <a:lnTo>
                      <a:pt x="229" y="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8200" y="536400"/>
                <a:ext cx="246240" cy="368640"/>
              </a:xfrm>
              <a:custGeom>
                <a:avLst/>
                <a:gdLst/>
                <a:ahLst/>
                <a:rect l="l" t="t" r="r" b="b"/>
                <a:pathLst>
                  <a:path w="155" h="232">
                    <a:moveTo>
                      <a:pt x="20" y="10"/>
                    </a:moveTo>
                    <a:lnTo>
                      <a:pt x="20" y="52"/>
                    </a:lnTo>
                    <a:lnTo>
                      <a:pt x="20" y="84"/>
                    </a:lnTo>
                    <a:lnTo>
                      <a:pt x="6" y="94"/>
                    </a:lnTo>
                    <a:lnTo>
                      <a:pt x="0" y="126"/>
                    </a:lnTo>
                    <a:lnTo>
                      <a:pt x="6" y="158"/>
                    </a:lnTo>
                    <a:lnTo>
                      <a:pt x="20" y="158"/>
                    </a:lnTo>
                    <a:lnTo>
                      <a:pt x="39" y="168"/>
                    </a:lnTo>
                    <a:lnTo>
                      <a:pt x="59" y="189"/>
                    </a:lnTo>
                    <a:lnTo>
                      <a:pt x="79" y="221"/>
                    </a:lnTo>
                    <a:lnTo>
                      <a:pt x="99" y="231"/>
                    </a:lnTo>
                    <a:lnTo>
                      <a:pt x="118" y="231"/>
                    </a:lnTo>
                    <a:lnTo>
                      <a:pt x="154" y="228"/>
                    </a:lnTo>
                    <a:lnTo>
                      <a:pt x="154" y="189"/>
                    </a:lnTo>
                    <a:lnTo>
                      <a:pt x="150" y="138"/>
                    </a:lnTo>
                    <a:lnTo>
                      <a:pt x="132" y="126"/>
                    </a:lnTo>
                    <a:lnTo>
                      <a:pt x="118" y="117"/>
                    </a:lnTo>
                    <a:lnTo>
                      <a:pt x="96" y="105"/>
                    </a:lnTo>
                    <a:lnTo>
                      <a:pt x="72" y="75"/>
                    </a:lnTo>
                    <a:lnTo>
                      <a:pt x="64" y="33"/>
                    </a:lnTo>
                    <a:lnTo>
                      <a:pt x="52" y="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ED5-65BE-4448-9EBD-CDD640E3C6C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38Z</dcterms:modified>
  <cp:revision>6</cp:revision>
  <dc:subject/>
  <dc:title>幻灯片 1</dc:title>
</cp:coreProperties>
</file>